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CEF-0FBE-4964-B440-1550AB44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369-20CA-4D5E-807E-7145BB7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8E5-C4FF-40D9-B12F-F582B66D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E58-E024-41D1-9B01-85B2B369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087-0E3E-45D8-9043-C3AC13FD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5BA-3359-4C3A-86E0-B4A9B39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318-D404-4B80-80E5-ED907F6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45B-3CDB-4148-BE3A-46D90A0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93A-34F4-4829-91C0-32FED1C2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D27-B921-40FF-B8E9-923A883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F4B-E360-47BB-9781-D43094A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0A5-86AF-402E-9D2C-62402D9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110-B091-4F5E-B62F-F2CAAA4DEC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tory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pdated resources\Part 2\JPEGS\new animation part2\Page_9.jpg"/>
          <p:cNvPicPr/>
          <p:nvPr/>
        </p:nvPicPr>
        <p:blipFill>
          <a:blip r:embed="rId1"/>
          <a:stretch/>
        </p:blipFill>
        <p:spPr>
          <a:xfrm>
            <a:off x="221472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pdated resources\Part 2\JPEGS\new animation part2\Page_1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pdated resources\Part 2\JPEGS\new animation part2\Page_2.jpg"/>
          <p:cNvPicPr/>
          <p:nvPr/>
        </p:nvPicPr>
        <p:blipFill>
          <a:blip r:embed="rId1"/>
          <a:stretch/>
        </p:blipFill>
        <p:spPr>
          <a:xfrm>
            <a:off x="264312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pdated resources\Part 2\JPEGS\new animation part2\Page_3.jpg"/>
          <p:cNvPicPr/>
          <p:nvPr/>
        </p:nvPicPr>
        <p:blipFill>
          <a:blip r:embed="rId1"/>
          <a:stretch/>
        </p:blipFill>
        <p:spPr>
          <a:xfrm>
            <a:off x="2571840" y="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Updated resources\Part 2\JPEGS\new animation part2\Page_4.jpg"/>
          <p:cNvPicPr/>
          <p:nvPr/>
        </p:nvPicPr>
        <p:blipFill>
          <a:blip r:embed="rId1"/>
          <a:stretch/>
        </p:blipFill>
        <p:spPr>
          <a:xfrm>
            <a:off x="2571840" y="792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pdated resources\Part 2\JPEGS\new animation part2\Page_5.jpg"/>
          <p:cNvPicPr/>
          <p:nvPr/>
        </p:nvPicPr>
        <p:blipFill>
          <a:blip r:embed="rId1"/>
          <a:stretch/>
        </p:blipFill>
        <p:spPr>
          <a:xfrm>
            <a:off x="2571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Updated resources\Part 2\JPEGS\new animation part2\Page_6.jpg"/>
          <p:cNvPicPr/>
          <p:nvPr/>
        </p:nvPicPr>
        <p:blipFill>
          <a:blip r:embed="rId1"/>
          <a:stretch/>
        </p:blipFill>
        <p:spPr>
          <a:xfrm>
            <a:off x="2571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pdated resources\Part 2\JPEGS\new animation part2\Page_7.jpg"/>
          <p:cNvPicPr/>
          <p:nvPr/>
        </p:nvPicPr>
        <p:blipFill>
          <a:blip r:embed="rId1"/>
          <a:stretch/>
        </p:blipFill>
        <p:spPr>
          <a:xfrm>
            <a:off x="2449440" y="-9360"/>
            <a:ext cx="4857840" cy="68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Updated resources\Part 2\JPEGS\new animation part2\Page_8.jpg"/>
          <p:cNvPicPr/>
          <p:nvPr/>
        </p:nvPicPr>
        <p:blipFill>
          <a:blip r:embed="rId1"/>
          <a:stretch/>
        </p:blipFill>
        <p:spPr>
          <a:xfrm>
            <a:off x="2357280" y="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0:36:34Z</dcterms:created>
  <dc:creator>kforbes</dc:creator>
  <dc:description/>
  <dc:language>en-US</dc:language>
  <cp:lastModifiedBy>kforbes</cp:lastModifiedBy>
  <dcterms:modified xsi:type="dcterms:W3CDTF">2008-10-31T11:55:03Z</dcterms:modified>
  <cp:revision>12</cp:revision>
  <dc:subject/>
  <dc:title>New animation</dc:title>
</cp:coreProperties>
</file>